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90229"/>
        <c:axId val="83682677"/>
      </c:barChart>
      <c:catAx>
        <c:axId val="12490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82677"/>
        <c:crosses val="autoZero"/>
        <c:auto val="1"/>
        <c:lblAlgn val="ctr"/>
        <c:lblOffset val="100"/>
        <c:noMultiLvlLbl val="0"/>
      </c:catAx>
      <c:valAx>
        <c:axId val="83682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90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DFF-8C02-4096-BA3D-8EA77802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5EF-BA10-4DCD-A553-81924B9C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502-EA1A-4472-8E0D-9EAB1B11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110-594C-4036-859C-030501FB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5B9-4A7F-4B13-BA47-10BE35B9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477-5E80-48FC-B98C-DA3AF2EE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AC7-8FF9-4DF9-A701-76DC1BA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BBA-80DB-42D9-AC93-D886883B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BD1-E544-4347-BB80-1B301824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0D9-AF8E-41D8-86AB-23CC09E9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68A-026F-46DE-8D25-C3C0B95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119-BF60-4DF9-A406-28D949AD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AF796-DC89-4290-BF7C-98FF0EED21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