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432331"/>
        <c:axId val="9145756"/>
      </c:barChart>
      <c:catAx>
        <c:axId val="734323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45756"/>
        <c:crosses val="autoZero"/>
        <c:auto val="1"/>
        <c:lblAlgn val="ctr"/>
        <c:lblOffset val="100"/>
        <c:noMultiLvlLbl val="0"/>
      </c:catAx>
      <c:valAx>
        <c:axId val="9145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4323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F1F4-6BB7-4512-B2AD-8A2B9D96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570-6EB1-4D66-B277-A4815DA5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DD5-4B86-419D-B01F-832E0ADA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98C5-9E57-422C-93C5-3E5D8016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25A8-8CB4-4ABD-BAD6-A22F5821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F25-31BA-40BB-86BE-7183D0DB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8E8-62A0-45E2-9DDC-A65D27FE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46A-C333-4ED8-A4F0-0329E114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C4C-EC63-4DEF-8926-EAC0245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2253-C08D-49C5-8C33-0AA97C73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C72-09D1-4AEE-8495-7CF8DC7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BA35-7BA6-493F-B906-F44F126C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B90AC-CD62-4D95-A5F7-5D33F96BB0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