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88041"/>
        <c:axId val="66138816"/>
      </c:barChart>
      <c:catAx>
        <c:axId val="22388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38816"/>
        <c:crosses val="autoZero"/>
        <c:auto val="1"/>
        <c:lblAlgn val="ctr"/>
        <c:lblOffset val="100"/>
        <c:noMultiLvlLbl val="0"/>
      </c:catAx>
      <c:valAx>
        <c:axId val="66138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8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E27-DC92-4908-AEE0-4292C6E9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BA8-F8E1-4B2C-B4EA-9CDDBC7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52A-6D5A-44AD-BE1B-11FFD0D7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724-D9DD-4418-A886-F45D33A0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DCE-E3A3-4967-8ADE-27ACBF3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2F4-AD5D-4B6D-A730-43F6430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1AD-3343-4323-968E-64CE92AF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4C9-E148-4C58-8FD3-B6371A58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84B-7EF4-4595-AB6A-224462D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7FD-075D-4C8E-9979-AA1E0BC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9B3-CEB6-4D34-8D45-3265F570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CD6-ADFD-4809-A2FF-2C8396C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20233-CD2D-487D-9C6E-F327023907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