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82385"/>
        <c:axId val="54848557"/>
      </c:barChart>
      <c:catAx>
        <c:axId val="60182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48557"/>
        <c:crosses val="autoZero"/>
        <c:auto val="1"/>
        <c:lblAlgn val="ctr"/>
        <c:lblOffset val="100"/>
        <c:noMultiLvlLbl val="0"/>
      </c:catAx>
      <c:valAx>
        <c:axId val="54848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82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AEB-0D8F-4BFE-8006-E9B09FE8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519-FF6F-4CD2-BA7E-6FC5BA5F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BAF-6758-4C4F-A057-A069D19B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4A2-61FF-4479-A81D-9A626FCC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BDA-E9D0-4FFA-8352-12377EBB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BEA-7AEB-4377-9F37-DE52E6AC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F04-8F78-4D4B-987E-41FB59A0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CC0-DBA4-48FD-A0FE-CD89AA51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871-412D-4698-93A0-CE0BD16C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FF0-1F7F-4303-BECE-24741731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028-4A6C-497D-A558-DB8A29AE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97F-D6F7-4CCE-A58C-0E3A24D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C2065-8FBF-4929-B66B-6AD3FF03A1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