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29213"/>
        <c:axId val="9278356"/>
      </c:barChart>
      <c:catAx>
        <c:axId val="71029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356"/>
        <c:crosses val="autoZero"/>
        <c:auto val="1"/>
        <c:lblAlgn val="ctr"/>
        <c:lblOffset val="100"/>
        <c:noMultiLvlLbl val="0"/>
      </c:catAx>
      <c:valAx>
        <c:axId val="9278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29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51D-145F-4924-A7E4-F66866F5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1B1-E433-4914-B4DD-2770A854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678-747C-4EED-9AF4-A14239C5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BCC-72B4-4BBB-94F4-8B78AEA3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50E-5233-4056-BC10-C0D478F2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18B-1548-4EC9-BD35-BA38F269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598-1A10-492E-9FA3-849D41F7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58A-6C7B-404E-877A-68645025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E30-C7CD-44D1-9821-65DE2C27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5CB-E4BB-4819-8250-30AA05B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793-CA61-4F1D-9C34-5DFB9664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71F-3D9C-42EE-B2BD-FFAA927C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1AD51-6B53-45AC-9F51-26FD983F5C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