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92777"/>
        <c:axId val="53609432"/>
      </c:barChart>
      <c:catAx>
        <c:axId val="94592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09432"/>
        <c:crosses val="autoZero"/>
        <c:auto val="1"/>
        <c:lblAlgn val="ctr"/>
        <c:lblOffset val="100"/>
        <c:noMultiLvlLbl val="0"/>
      </c:catAx>
      <c:valAx>
        <c:axId val="53609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92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57F-E624-4233-B6D3-6AB5762C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9FE-821F-402A-9A8C-93ADAF93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FBD-5B68-42E8-93C9-6141BA36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42A-FCC2-4257-8592-19870A88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FCD-1E53-4C50-8F3A-0352B65B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E69-7F22-4F0B-8A3A-C2F54026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719-A4D9-46DD-A9EE-28861DEE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D66-27ED-4BA8-87E6-D19A69B3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482-FF6D-4D7C-B0B2-6A6A1AB5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7FB-7A6E-4EDC-8078-D15DCFBB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57D-1303-4C5A-9016-DE5F4F50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2C6-DE2B-407A-999D-91D6544F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39124-4123-4694-85FB-5B8436D220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