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489280"/>
        <c:axId val="28769963"/>
      </c:barChart>
      <c:catAx>
        <c:axId val="124892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69963"/>
        <c:crosses val="autoZero"/>
        <c:auto val="1"/>
        <c:lblAlgn val="ctr"/>
        <c:lblOffset val="100"/>
        <c:noMultiLvlLbl val="0"/>
      </c:catAx>
      <c:valAx>
        <c:axId val="287699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892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908D-4246-4D2C-AFBB-BE7F560E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66C8-6408-416F-AC75-DA634823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A4B7-85C3-48D4-BEDD-777EDDF8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52BB-6E7B-457D-A1A0-323DF228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3D06-372B-46CC-B189-62A83CD7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F1A4-CBCC-4119-885E-A9204A9C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6D54-8886-4322-948F-3D977C77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DAA0-4575-449C-874D-45A68B71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1B75-ECFA-460D-B9BF-CF11CFC2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D98E-E9D5-4C29-B34C-75E4C3A3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BB99-72B5-4A5B-A3D1-3953801B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3D11-A0A5-4428-903A-4C549723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25CE3-5A5C-483A-8162-502EDED1F0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