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8471614"/>
        <c:axId val="92591086"/>
      </c:barChart>
      <c:catAx>
        <c:axId val="3847161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591086"/>
        <c:crosses val="autoZero"/>
        <c:auto val="1"/>
        <c:lblAlgn val="ctr"/>
        <c:lblOffset val="100"/>
        <c:noMultiLvlLbl val="0"/>
      </c:catAx>
      <c:valAx>
        <c:axId val="9259108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47161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C6608-3FB0-4FED-B1BB-BC0F1F2F8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EF2F7-448B-4175-B48C-20A790FA7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EBE70-5859-4462-B7D7-B52542473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C4F94-C84D-41BB-8AA5-7E5881A67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0ACA6-357C-4238-B882-467E41D5A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AF346-32E0-478C-A1FD-CC58DB001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87946-D02C-4827-9C55-E4997FA00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DD880-1445-4E51-8F8B-376B86395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EE0D9-A74D-4CF2-82A1-2A8971AF3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911B9-8666-4D86-A155-353A99A3B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72086-94AB-4CE3-A395-949F19570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2344E-153B-4636-8F51-906F4482A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8DBA51-F3C8-4CB7-BA63-645E89B9A05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