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38927"/>
        <c:axId val="78529249"/>
      </c:barChart>
      <c:catAx>
        <c:axId val="95838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29249"/>
        <c:crosses val="autoZero"/>
        <c:auto val="1"/>
        <c:lblAlgn val="ctr"/>
        <c:lblOffset val="100"/>
        <c:noMultiLvlLbl val="0"/>
      </c:catAx>
      <c:valAx>
        <c:axId val="78529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38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D5D-C07F-4C61-9F2F-8FFC8067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703-C5C0-4DAD-8488-B214015B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54B-0A23-445C-B9E1-04D8C0C9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BA2-995D-4AFF-9059-B4F4A5C7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703-A392-4EFF-B20A-2A1442A8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5ED-BA84-4BB3-A02E-3D9FA412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C3B-7B18-4F11-8DC7-8D960370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FB6-8C05-42AA-83A2-F88F0EB2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7EB-F1CF-465E-A36D-D6AC565E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98A-3F73-44D9-AF4E-AF3D662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E0F-39EE-4EEA-AABA-94320AA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AA4-C661-4943-A492-B2C4D1CD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310D6-4FDE-4BDD-9F4D-F03D994A06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