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52847"/>
        <c:axId val="71428644"/>
      </c:barChart>
      <c:catAx>
        <c:axId val="49752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28644"/>
        <c:crosses val="autoZero"/>
        <c:auto val="1"/>
        <c:lblAlgn val="ctr"/>
        <c:lblOffset val="100"/>
        <c:noMultiLvlLbl val="0"/>
      </c:catAx>
      <c:valAx>
        <c:axId val="71428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2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928-B9B1-45D5-A33F-297C7A07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E15-7FFE-49AA-9D96-2F7672E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D8B-F7AA-43D9-BAC1-05415DB4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1DF-6996-455D-B6F1-FDA045E5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556-F275-470E-8FAC-164E306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A9A-93DF-4E5D-B39B-28B4515A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A90-4C8F-495D-9991-F0E6283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CF1-10C7-4DF8-8560-F14B9E6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229-E2BC-4F3F-A23F-BD58C974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D5F-FD5F-4891-8AD0-2BCCD66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61F-A027-4D1B-9A4C-B6CBECFE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846-A80B-4AE9-99A0-E10FB55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1DB6A-2786-4377-8B0D-79FBEE3C2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