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53269"/>
        <c:axId val="94547084"/>
      </c:barChart>
      <c:catAx>
        <c:axId val="28553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7084"/>
        <c:crosses val="autoZero"/>
        <c:auto val="1"/>
        <c:lblAlgn val="ctr"/>
        <c:lblOffset val="100"/>
        <c:noMultiLvlLbl val="0"/>
      </c:catAx>
      <c:valAx>
        <c:axId val="94547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53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A56-880C-4E7C-BFFF-580E7395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180-3D9B-4920-A321-17EB9ED3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A5E-2513-4F79-9004-D844CB9C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A65-2DAC-4BBC-B063-89FBF780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101-FF2C-48DC-9AC1-9E4DC9FA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708-6288-40E8-9FD4-018988BB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6FD-F758-4BCF-96F2-A9879569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245-06B8-4877-BF2A-8ABE8E0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661-1189-4044-8419-A44879C3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FF9-8CA1-440D-B603-D25E8D7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FFE-BE9F-452C-8263-889FF70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E67-A2D0-4CB0-BF90-BE34EB7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4BA62-DE98-4D5E-9FE5-1568640052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