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0320"/>
        <c:axId val="2616703"/>
      </c:barChart>
      <c:catAx>
        <c:axId val="5890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703"/>
        <c:crosses val="autoZero"/>
        <c:auto val="1"/>
        <c:lblAlgn val="ctr"/>
        <c:lblOffset val="100"/>
        <c:noMultiLvlLbl val="0"/>
      </c:catAx>
      <c:valAx>
        <c:axId val="2616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B46-3B4F-4096-AFD6-2E58C36F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741-03E9-4611-A2E7-CE6B616F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6EC-E920-4DF1-AFB2-1E119CD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974-C34F-4286-8089-E5C375A7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7E0-4787-4C2C-8760-6F7EB66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F9D-75AE-4974-AE4F-E547163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BED-4A75-4056-9238-7A1F9238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A34-437D-4168-9D87-47B4201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7BC-EE20-4834-881B-7197419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4CF-2B99-4E8F-B665-AB9F3B7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A53-35FF-4CC9-BF8D-D13A4F4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19C-B1D9-4EA6-981A-155AAC6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8EE55-00C3-49A4-925E-AE05352D0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