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783602"/>
        <c:axId val="39904468"/>
      </c:barChart>
      <c:catAx>
        <c:axId val="547836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04468"/>
        <c:crosses val="autoZero"/>
        <c:auto val="1"/>
        <c:lblAlgn val="ctr"/>
        <c:lblOffset val="100"/>
        <c:noMultiLvlLbl val="0"/>
      </c:catAx>
      <c:valAx>
        <c:axId val="399044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836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BC85-E90C-41EF-8232-E4EA3915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7309-BB91-443F-963B-7DAB85A6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05D2-AD48-4759-8EFC-6098521E6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C5AB-94C0-45C4-A57B-944316025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6AEB-0E42-44B2-8414-E541F023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BA3F-8B6C-4CE9-9CE4-9B3B4F3B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B6AB-F1F2-4519-823E-40E5DFE8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99E3-F0D1-4E58-B748-F0020358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BCC1-F1CE-4185-92D1-CEAD088D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C156-BF38-4D01-B66F-4DA0C635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F3ED-C361-45EC-82B4-0AF1DDE0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5803-4F28-4046-9BA5-2278A2BC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0EEE1-9384-402B-B428-DA3C9D5A9D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