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36363"/>
        <c:axId val="36794896"/>
      </c:barChart>
      <c:catAx>
        <c:axId val="60036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94896"/>
        <c:crosses val="autoZero"/>
        <c:auto val="1"/>
        <c:lblAlgn val="ctr"/>
        <c:lblOffset val="100"/>
        <c:noMultiLvlLbl val="0"/>
      </c:catAx>
      <c:valAx>
        <c:axId val="36794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36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6EF-7691-4D4F-83D5-88F28A6E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047-E0D3-48C6-93C6-A6E8B6E5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C85-660A-4C85-8106-9601A063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C66-BA1E-47E5-BA65-118D5AFE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AE8-0380-4804-B57E-2EA335FA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690-D45B-46C9-92E4-A9A0B54B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2EE-F354-4C8A-9081-DA3D44C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814-6A61-41AB-9BBC-2D9D165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4BE-5294-464F-8EBE-1DA24C5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583-4FE2-4E8B-B20B-96770C1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D4C-9AED-41AC-ADCF-196F35D5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EF9-0E56-4CAE-9044-4F8D9BC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FBD1-4963-4DDC-9B90-031020BD4E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