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245750"/>
        <c:axId val="4090256"/>
      </c:barChart>
      <c:catAx>
        <c:axId val="32457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90256"/>
        <c:crosses val="autoZero"/>
        <c:auto val="1"/>
        <c:lblAlgn val="ctr"/>
        <c:lblOffset val="100"/>
        <c:noMultiLvlLbl val="0"/>
      </c:catAx>
      <c:valAx>
        <c:axId val="40902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457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06916-7172-4431-A4CA-6FE6DA8947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5A67C-93F2-4AB7-9084-4D3B8831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E7132-4132-4083-801C-3CD9FDC07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62349-9369-40A4-B762-41DA9C31D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304B-E61B-4C1C-85EB-CFB684F50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1D58-4116-4C1A-A2E7-F6FB49CC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8799-80B6-45EB-BCC6-736B5048C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88694-05C3-4F8F-BD68-62757F84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8428-773E-4A62-A6B6-03A4EB3EF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F0A9-519A-4D7C-89C4-7611D431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67C5E-E108-4663-867C-C2BA10BD1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8A4A4-AEA1-4AC1-81F5-6D3C70F3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92B3A0-F38A-4548-A40D-264FADF0D04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