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00229"/>
        <c:axId val="8036131"/>
      </c:barChart>
      <c:catAx>
        <c:axId val="388002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6131"/>
        <c:crosses val="autoZero"/>
        <c:auto val="1"/>
        <c:lblAlgn val="ctr"/>
        <c:lblOffset val="100"/>
        <c:noMultiLvlLbl val="0"/>
      </c:catAx>
      <c:valAx>
        <c:axId val="80361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002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33FA-8DF5-4279-A0D2-F4344372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ACC-4D6E-463E-AB91-DF2A0A22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4CDD-9B6F-4F3C-A9D4-82079118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C80D-171B-4F1D-B491-AFB4423E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334-215A-4AA6-8B0E-871B8EDE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D791-B2D3-4449-8D3B-5609CC0D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079E-2758-4C72-A1AD-4B97A333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FD68-6F44-4172-B18D-BA61D5B2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6633-436E-416E-82C8-DFD50A9C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F0AD-BEF6-487C-BCFC-F3C53223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301-D894-41A1-A487-CFBE2700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A56F-83A6-423B-93E6-00F1E360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F485C-76CB-42ED-BAED-910EEDD602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