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54920"/>
        <c:axId val="61311029"/>
      </c:barChart>
      <c:catAx>
        <c:axId val="91554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11029"/>
        <c:crosses val="autoZero"/>
        <c:auto val="1"/>
        <c:lblAlgn val="ctr"/>
        <c:lblOffset val="100"/>
        <c:noMultiLvlLbl val="0"/>
      </c:catAx>
      <c:valAx>
        <c:axId val="61311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54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91C-F731-4409-8A60-F9854C93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C55-D72A-43D3-ADA8-8522A644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FD2-56E1-4DAF-BC45-79ED53BB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B5E-96D9-4344-ACBF-D58AF286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633-7DDF-4A63-AD00-6C9C97A0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C8C-679C-479E-AF32-EF6AFA2D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B79-7FD8-4C1B-84CD-63D7DE54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1EA-DA09-4F04-8EE4-AF71EBEF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E36-461D-4ECF-ACEF-3F46072A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EB2-EF46-4FFB-87B0-27A709B3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F74-7712-4AFD-904F-44784807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B1E-EE95-4DB9-A5A1-4B190100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7FFBA-D03A-45C4-8431-5088AE0AC6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