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28866"/>
        <c:axId val="62562379"/>
      </c:barChart>
      <c:catAx>
        <c:axId val="51328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62379"/>
        <c:crosses val="autoZero"/>
        <c:auto val="1"/>
        <c:lblAlgn val="ctr"/>
        <c:lblOffset val="100"/>
        <c:noMultiLvlLbl val="0"/>
      </c:catAx>
      <c:valAx>
        <c:axId val="62562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28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A0F-05E9-405C-8290-050B1B08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754-DFCD-4881-86F7-F5E1A06E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BFC-0A44-45B8-B947-38200E49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0CF-4B08-412F-9AD2-90680380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52F-D9B7-41E6-8D01-595483AC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01C-8E8D-4F23-9B15-F4E5A99F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EF2-FE9C-43D3-A870-EDC0F42C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111-2955-4186-B85D-5876892E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067-1DC2-4696-880C-E993DF6E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F0C-F1EE-4EAE-88EF-568BF853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CFA-848D-4B6E-B6F9-055D8E46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057-E815-43E2-8D9F-C7B2C3A4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0115D-4C3B-4757-A2DB-7A12CDF234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