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57265"/>
        <c:axId val="11334817"/>
      </c:barChart>
      <c:catAx>
        <c:axId val="68357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34817"/>
        <c:crosses val="autoZero"/>
        <c:auto val="1"/>
        <c:lblAlgn val="ctr"/>
        <c:lblOffset val="100"/>
        <c:noMultiLvlLbl val="0"/>
      </c:catAx>
      <c:valAx>
        <c:axId val="11334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7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1A3-9A82-4551-B839-49E7A7EC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865-F59B-4506-AB78-C4AD123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532-67B9-4B7E-9F8B-E2CBB12E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462-D843-4215-9581-B22A530F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FA6-EB08-48D3-AF5E-3C05DD2A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301-7B72-48E9-9BBD-A4D6808B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48D-6B83-4497-A0B2-3E4EF84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E0A-498C-47A7-BA70-B1EAF760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04F-0FBF-4791-A1AB-EA050B4B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6AF-4BF4-455F-9B9C-B6A3536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AAC-7F5D-4577-9FD4-AB54FD8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989-89BE-4EF5-AC41-1A6CF55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5F1A9-8EBE-4CE8-8D55-2307537E6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