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41045"/>
        <c:axId val="86809795"/>
      </c:barChart>
      <c:catAx>
        <c:axId val="35641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9795"/>
        <c:crosses val="autoZero"/>
        <c:auto val="1"/>
        <c:lblAlgn val="ctr"/>
        <c:lblOffset val="100"/>
        <c:noMultiLvlLbl val="0"/>
      </c:catAx>
      <c:valAx>
        <c:axId val="86809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41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88B-920E-4682-9852-72BB0B67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098-D34F-4338-9EEE-EB7A875A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CDC-539F-44FB-9446-CB4BF71A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9A6-9E35-4519-A8DF-46402441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153-0D37-4B62-B060-F11E7097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FA1-BDA0-4E6A-BD17-92F973E5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372-C5D4-4391-9F71-A207EDAA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C12-0598-4E52-9526-1FBDFB56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E65-7057-44B0-8165-BA202792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012-244E-4DB9-88EB-E1A878B4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63A-5B41-4022-A754-62583E6B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B7B-35FE-4B7D-895A-B5938FB6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4BC14-2C16-4632-847F-C5F4D7C9D9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