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43779"/>
        <c:axId val="98896006"/>
      </c:barChart>
      <c:catAx>
        <c:axId val="70243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6006"/>
        <c:crosses val="autoZero"/>
        <c:auto val="1"/>
        <c:lblAlgn val="ctr"/>
        <c:lblOffset val="100"/>
        <c:noMultiLvlLbl val="0"/>
      </c:catAx>
      <c:valAx>
        <c:axId val="98896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3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76D-AE59-421D-BD5E-3FC1F0DB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A84-7994-4967-AF4C-058EEAD6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4BD-144B-41A8-8B0E-8AE580E8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D56-B764-4A58-9BA7-285F9449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5DB-2CFA-441D-A681-873ADF19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893-3BE6-473E-8D6C-B3A29FE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9E0-8689-4FCC-975D-3D948D2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D62-0188-4C0C-ADCB-73C312C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46B-C06E-4430-A7E1-EDAB49DE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401-6F85-4711-A6CB-70A3242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048-E407-4E06-AEE1-EA523E6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3F1-77B5-4EE2-94D4-98D7C1C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F5FD7-7B2C-4631-875A-156F1E873D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