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46461"/>
        <c:axId val="73105058"/>
      </c:barChart>
      <c:catAx>
        <c:axId val="95046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05058"/>
        <c:crosses val="autoZero"/>
        <c:auto val="1"/>
        <c:lblAlgn val="ctr"/>
        <c:lblOffset val="100"/>
        <c:noMultiLvlLbl val="0"/>
      </c:catAx>
      <c:valAx>
        <c:axId val="73105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46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BC5-6D88-4CAC-8577-6FCEA4D3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0E4-5301-4E27-8BCC-850E332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0FF-E584-47B4-B8D9-9795DC2F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460-879A-4351-A3DB-AD9D5488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806-A4D3-4A9A-9FB7-3D506023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65B-015D-4189-965D-CE5BBC3F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17C-9169-4C4E-874E-ADB15E8A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222-35DC-450C-ACDF-816A6078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F27-5ADA-4BD3-9C65-676ECBDA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F64-7732-43F8-B706-6A66558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D45-47D2-447E-A08C-D51D7A99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E56-6FFB-4C97-834B-AF7042F0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95D02-6E9D-4927-92CA-03A5190581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