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2905"/>
        <c:axId val="69847984"/>
      </c:barChart>
      <c:catAx>
        <c:axId val="6622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47984"/>
        <c:crosses val="autoZero"/>
        <c:auto val="1"/>
        <c:lblAlgn val="ctr"/>
        <c:lblOffset val="100"/>
        <c:noMultiLvlLbl val="0"/>
      </c:catAx>
      <c:valAx>
        <c:axId val="69847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2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8F1-DDF9-4BA3-9A9C-8B49EBF3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42F-A1D5-4AA2-AC54-177EAA4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DA8-F664-45C7-AFBE-CAC3A081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E5B-9244-4F4A-9A9A-E65E5594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EEF-CA91-4EA2-8033-25AFC13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4E1-8179-4696-923E-C3A56C8A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BFE-21D4-41FF-9A6D-57DE753C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28B-803E-4489-8F4B-79218C84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21A-0DB1-4A47-AA78-1EA9557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1AD-01AE-4932-9173-D3C2C22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526-F46D-4474-8501-916BD477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3C5-5524-4532-8987-9B508443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246F-D33D-4845-8486-0F1FB7D8B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