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44482"/>
        <c:axId val="75847345"/>
      </c:barChart>
      <c:catAx>
        <c:axId val="61744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47345"/>
        <c:crosses val="autoZero"/>
        <c:auto val="1"/>
        <c:lblAlgn val="ctr"/>
        <c:lblOffset val="100"/>
        <c:noMultiLvlLbl val="0"/>
      </c:catAx>
      <c:valAx>
        <c:axId val="75847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44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B58-A9C7-495D-8DAA-2B155965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865-3D60-4E58-AC9F-AFFE3744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FE6-6224-43FD-BD14-C474C1A9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F7E-1909-49E2-9F49-A4AEED5D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573-4A2E-46EC-A934-D2F6E413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966F-991C-4BD5-9EA1-918EFF35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D1D-9E2C-4791-AD72-67B27B65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AE8-3422-4365-9CF6-B9EDC0AA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725-3917-44D9-810C-8BFF9FC2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194-CE18-45C7-A7C7-E22B0E14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23B-F74A-48CB-8D79-D013D228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5E1-C19F-4770-BB25-939858DB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79C95-4A5D-405A-9BD7-2C022754DC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