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07320"/>
        <c:axId val="82014313"/>
      </c:barChart>
      <c:catAx>
        <c:axId val="47107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14313"/>
        <c:crosses val="autoZero"/>
        <c:auto val="1"/>
        <c:lblAlgn val="ctr"/>
        <c:lblOffset val="100"/>
        <c:noMultiLvlLbl val="0"/>
      </c:catAx>
      <c:valAx>
        <c:axId val="82014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07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B8E-E4E5-4DAF-ABC4-FB5898DD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6DA-15FD-42AA-9547-7FA0F527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596-24FD-4319-907A-C46843F8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FF6-5CE4-4FDE-966C-DD481104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A05-CA94-4B8B-886F-C4DE2330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D90-3DEF-48F3-89D7-8C008CFF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421-DF45-49C1-8BBE-E83ACB4F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C05-E8B4-4DA7-9ABF-43979EC2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426-F3A7-4313-85C5-1A184400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C17-B5DD-4FC6-9FA4-8FBA92B0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966-BAB8-4C4A-9F7A-D8D85443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773-9677-4569-9545-E9C1493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0CB29-FE83-4191-9EC4-23EEDD927B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