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94927"/>
        <c:axId val="36333635"/>
      </c:barChart>
      <c:catAx>
        <c:axId val="88894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33635"/>
        <c:crosses val="autoZero"/>
        <c:auto val="1"/>
        <c:lblAlgn val="ctr"/>
        <c:lblOffset val="100"/>
        <c:noMultiLvlLbl val="0"/>
      </c:catAx>
      <c:valAx>
        <c:axId val="36333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94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17A-A948-4179-9AF4-CEC9F76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D5C-D14E-4F7B-9E25-12354BBE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755-0546-4E06-912A-E45ECCA9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CED-096B-4575-9D92-CE4D9413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839-7318-492D-A66F-05AF000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2CE-0F56-4F48-BBE4-4A22485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533-09EF-41DF-87E3-0D9CA66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9E0-7611-493A-96E3-93D5423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CD9-E447-4986-AE33-A78CE277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0D6-E8A8-4DBF-B297-C765731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47E-6F1E-4533-87B6-D6AED3E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A95-D36F-4E60-8E05-D17C59F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29B7-DA96-41FF-B4ED-20493A61F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