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656425"/>
        <c:axId val="80457057"/>
      </c:barChart>
      <c:catAx>
        <c:axId val="326564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457057"/>
        <c:crosses val="autoZero"/>
        <c:auto val="1"/>
        <c:lblAlgn val="ctr"/>
        <c:lblOffset val="100"/>
        <c:noMultiLvlLbl val="0"/>
      </c:catAx>
      <c:valAx>
        <c:axId val="804570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6564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9045-9973-468F-9BC5-220DEBB02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DF13-D745-4D26-A1DB-CDC9E185E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C8BD-70BD-410A-80A6-5CDD721E6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5454-8581-49C5-8900-378C6B52C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0108-8A43-4AA5-9CBD-B2F84794C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CE35-7D6F-490F-921B-A182DE20B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9AC5-ACE7-418D-AD53-CAC123BF2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D350-7467-4365-8EF3-81F541F90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4ECC-7C47-4570-956F-82BD05981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0B27-F150-47A6-B487-5DDB9ACF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BDEA-410C-4FAE-AED1-F21600069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02DB-3FD5-40C2-BE1E-DE497896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33BDD3-A50C-4F23-9499-486906974BC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