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55220"/>
        <c:axId val="78855742"/>
      </c:barChart>
      <c:catAx>
        <c:axId val="85355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55742"/>
        <c:crosses val="autoZero"/>
        <c:auto val="1"/>
        <c:lblAlgn val="ctr"/>
        <c:lblOffset val="100"/>
        <c:noMultiLvlLbl val="0"/>
      </c:catAx>
      <c:valAx>
        <c:axId val="78855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55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431-4C71-4706-9FF1-1FA69329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7DE-6765-46F0-B0BF-09280F50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1CF-406B-4D8D-8F68-52E288A2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2B5-D096-44F4-BB94-F7C45C89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8ED-8FFE-4E5E-8999-69B5E7AA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F89-A8FD-40BC-A830-64DE6C60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784-3463-4378-8CBC-46E15781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B03-261C-4247-9E74-B1A5CBDC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913-7BF1-41F6-8E56-FDBB051C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4F1-1F08-44B2-B988-BA4C8E5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6C3-7791-4195-9E4F-99A2BA8C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CB6-FBD2-4195-97FF-7CEA600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DF0A9-C0D3-419D-A256-6260B1EBCE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