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34761"/>
        <c:axId val="82215138"/>
      </c:barChart>
      <c:catAx>
        <c:axId val="66347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15138"/>
        <c:crosses val="autoZero"/>
        <c:auto val="1"/>
        <c:lblAlgn val="ctr"/>
        <c:lblOffset val="100"/>
        <c:noMultiLvlLbl val="0"/>
      </c:catAx>
      <c:valAx>
        <c:axId val="822151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47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4984-4C0C-4E9C-8A3D-A79017EB0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E985-6055-4869-9109-B016524B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9884-A3BD-4577-B16D-545FF0F2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D37D-E271-466C-867F-F6B219BC7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7878-2969-43A6-B5C6-8259823A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4264-5B95-4771-B9BF-DC281F8F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5C3D-467F-4C13-93E5-38459D9F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E88C-5268-4432-8F28-B68CCF68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91AB-32C8-45B0-B73D-6C170681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5409-F817-413C-93BD-D50CC400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68C8-64E9-4722-B253-5A1F7DC7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5005-BD23-40F2-A6D3-F6CCECF0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32828-2B16-4769-BBD1-AE213FCBF7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