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44796"/>
        <c:axId val="52995789"/>
      </c:barChart>
      <c:catAx>
        <c:axId val="94444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95789"/>
        <c:crosses val="autoZero"/>
        <c:auto val="1"/>
        <c:lblAlgn val="ctr"/>
        <c:lblOffset val="100"/>
        <c:noMultiLvlLbl val="0"/>
      </c:catAx>
      <c:valAx>
        <c:axId val="52995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4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512-9843-4AF4-8A44-675B079C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A62-F9DF-41DD-BB98-59A2A44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C73-BF3D-47AE-8638-546B0FE3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E05-10BE-4E67-9793-1FBB1FB6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DE5-FB56-453C-857F-DBB71A71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B03-BCDB-4834-81EF-59F03170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4D4-D311-4615-918D-FF7BA949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115-14A0-4065-B83F-F77D162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EBA-097F-4344-97CF-568EBA15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B09-D5BF-4136-AB51-781CF321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177-21DD-4D1D-92CD-F7C6BD2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BC0-DD6E-443D-9F33-3B07F39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D9946-C9AD-4C1E-80CC-DD1047FAA1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