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61276"/>
        <c:axId val="19873955"/>
      </c:barChart>
      <c:catAx>
        <c:axId val="43761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73955"/>
        <c:crosses val="autoZero"/>
        <c:auto val="1"/>
        <c:lblAlgn val="ctr"/>
        <c:lblOffset val="100"/>
        <c:noMultiLvlLbl val="0"/>
      </c:catAx>
      <c:valAx>
        <c:axId val="19873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61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DAF-BA0D-4D76-8963-BBB09D12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4F0-5850-4FAB-9D86-D6900125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11C-F398-4A0E-98DC-53971B12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836-1369-4C2F-84BB-778CCBB8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C97-956B-4567-BB57-B6BBE4F7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7E5-7970-4B99-8227-E9FCD106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1D84-79B2-48AB-98D3-2144586A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1BF-3F5E-4D95-B371-87C39C88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81A-B7BD-4626-90BC-0B41C8D7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B434-77AE-4412-8BA2-A03C8E6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58D-2CF5-4299-AA95-D1F5039F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56B4-6E47-44BB-B0B0-F6CC7CE9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EDE33-4E2A-4EC0-92F6-E0513677DC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