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57400"/>
        <c:axId val="65332046"/>
      </c:barChart>
      <c:catAx>
        <c:axId val="331574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32046"/>
        <c:crosses val="autoZero"/>
        <c:auto val="1"/>
        <c:lblAlgn val="ctr"/>
        <c:lblOffset val="100"/>
        <c:noMultiLvlLbl val="0"/>
      </c:catAx>
      <c:valAx>
        <c:axId val="65332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574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8465-5D3B-4839-A174-0644173C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07F-9EF6-48B2-8888-2CE7822D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677-8102-493E-AD0A-9D85CA9F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EBF-39F3-4308-A79E-5930B125C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74DF-798A-4A73-9962-DA1E5E15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326-4090-4A92-AEF5-2B8FE8C1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8EE-E9F7-4AEB-AADF-43B89A61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F66-7E92-4EEC-A3E1-CC60BFBE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0AE-0FEA-4230-BD61-83F37D57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359-96F4-4206-AC33-F033967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4A5-EB46-4570-A46A-199BF097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1968-F489-4159-B710-A88F227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9156B-B2C9-41DF-937E-2AA93F5632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