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600248"/>
        <c:axId val="84266279"/>
      </c:barChart>
      <c:catAx>
        <c:axId val="706002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266279"/>
        <c:crosses val="autoZero"/>
        <c:auto val="1"/>
        <c:lblAlgn val="ctr"/>
        <c:lblOffset val="100"/>
        <c:noMultiLvlLbl val="0"/>
      </c:catAx>
      <c:valAx>
        <c:axId val="842662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6002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6F44-4EBC-4D73-A33F-3C2761632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D679-DDC8-4CE5-B12E-A662109BF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3F42-C99B-4C4F-8CDC-D4160961A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6F22-2971-4323-B728-3F1F2CBF5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E3BD-FF31-4021-AEFD-FFC1E61CB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8D7D-044C-4BC4-A6B3-412B7EA41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6DE1-9A0C-491E-9B71-259D3502F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9584-C72A-4B44-8A9D-F35ADE4E9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272B-FED8-436C-AB21-7BC6CBAF6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C959-1352-433A-9824-E76F6ED8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353F-9D7E-4A87-B0A3-7BDF34F9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B3C1-18FC-4D18-91A3-E093F039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8822AD-46CC-40D3-9BA3-5DE33DE7663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