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795799"/>
        <c:axId val="68516664"/>
      </c:barChart>
      <c:catAx>
        <c:axId val="297957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16664"/>
        <c:crosses val="autoZero"/>
        <c:auto val="1"/>
        <c:lblAlgn val="ctr"/>
        <c:lblOffset val="100"/>
        <c:noMultiLvlLbl val="0"/>
      </c:catAx>
      <c:valAx>
        <c:axId val="685166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957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CC2-A1BB-4EB2-9E6B-5847D7B3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D5A9-C36F-43EA-BA93-A1D26FDB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120-A618-4963-B634-1BEA64F1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0CC-DBD6-4A4D-AAE7-4DC947A9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793-C0FC-4718-85FA-0025891F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0F0-D532-44D2-B364-D1374630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202-FFB1-4781-89A2-7F2A7D3C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EEF-70F2-4AC7-B009-0FE321E8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93C-D39A-4959-AAE4-85C6C848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7C43-123A-46AB-B2ED-6CC27EA0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D1FB-691B-4641-8DEE-C1B9D593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8702-3F42-4FCC-A695-DF09D7FA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6856A-43BD-4036-8BFA-B954D500E0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