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56668"/>
        <c:axId val="53253889"/>
      </c:barChart>
      <c:catAx>
        <c:axId val="21156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3889"/>
        <c:crosses val="autoZero"/>
        <c:auto val="1"/>
        <c:lblAlgn val="ctr"/>
        <c:lblOffset val="100"/>
        <c:noMultiLvlLbl val="0"/>
      </c:catAx>
      <c:valAx>
        <c:axId val="53253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6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125-ACC7-4DF3-81F9-79A9DF9A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07C-60DF-4C39-9B42-4CD3E7F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04B-D6E6-4A91-9477-92A3FEBE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707-00C7-4625-B54A-108A3CA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8A2-34E6-4F62-828D-471FCC5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353-8651-4FF3-A811-771ACCF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8C9-11B3-47C8-A2AF-9E2F8956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D9A-74E1-45F6-8843-684297B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CAE-21C7-41F1-A40F-CDE1C2C3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B9C-BBC1-4216-B7B0-A05B3D2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EEE-89C0-4C32-A6ED-049D828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C53-6929-4FD8-B111-2600EB4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1CA63-5353-46F1-BBCD-0A58C67D1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