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737812"/>
        <c:axId val="60939360"/>
      </c:barChart>
      <c:catAx>
        <c:axId val="787378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39360"/>
        <c:crosses val="autoZero"/>
        <c:auto val="1"/>
        <c:lblAlgn val="ctr"/>
        <c:lblOffset val="100"/>
        <c:noMultiLvlLbl val="0"/>
      </c:catAx>
      <c:valAx>
        <c:axId val="609393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378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62EC-229F-4AA0-8BDB-2101E1BE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3BF0-4A2C-4368-B76C-3710F3FD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D449-0566-45E6-A0F1-FA4156ED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634D-E7A6-40AA-843B-5B19D5B5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3B8D-8DC8-4F88-8E5B-E160CBD8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A121-DBD6-47C6-B964-79EE8DE4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AA13-1FAF-4B6D-ABF2-D97F0730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1395-CBE2-4E04-824E-8C1D4209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974A-1396-4C7D-8F66-E50C1BAC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0261-22D5-4781-9AE2-43C02D18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F798-0892-46B9-93E6-FBE01A61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BD26-5CC6-4035-AF09-A11E2965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DB838-A5D3-4AA6-BB69-01B925019D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