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04262"/>
        <c:axId val="99916502"/>
      </c:barChart>
      <c:catAx>
        <c:axId val="89504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6502"/>
        <c:crosses val="autoZero"/>
        <c:auto val="1"/>
        <c:lblAlgn val="ctr"/>
        <c:lblOffset val="100"/>
        <c:noMultiLvlLbl val="0"/>
      </c:catAx>
      <c:valAx>
        <c:axId val="99916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4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052-E127-4CC1-9B45-47B153B7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FC1-9DCA-4065-A7CC-89006C8B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57C-AB7F-4657-9025-5D8CFBE0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427-163E-48F2-B3A0-E03EA447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AF2-0FE3-4548-86CB-A7C7CA76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0BF-8A98-46A7-94B1-A57D144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2D1-0C89-4190-8923-499CCFA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91B-F6EE-4041-BD5E-9468304E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6CF-019C-4D42-A060-D8AE1C85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EA3-2D1E-4361-9EAC-BF8C9B3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FCA-C742-4BAD-813B-37EFFFE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7E1-D425-4EF4-9ABF-07E3B49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2EF9-4BB8-4D7C-973A-A7171077D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