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24257"/>
        <c:axId val="51666062"/>
      </c:barChart>
      <c:catAx>
        <c:axId val="49124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66062"/>
        <c:crosses val="autoZero"/>
        <c:auto val="1"/>
        <c:lblAlgn val="ctr"/>
        <c:lblOffset val="100"/>
        <c:noMultiLvlLbl val="0"/>
      </c:catAx>
      <c:valAx>
        <c:axId val="51666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24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FAD-7C07-448C-BA7F-4D2CE7F1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58B-72BA-486F-9632-2F9CCDE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94B-E803-4636-B4BE-E333CBA5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A3C-507E-4687-A2C5-67EA3FDD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196-E893-494D-894B-049F6985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043-C81F-4DC5-8EC8-BD662CC9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766-2FE2-4991-83D8-07EE338D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CB4-F586-4D0A-B9DC-358F87B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0B6-0155-4132-878B-AB96D85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731-05C4-4359-B62F-BA7267D1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B2A-3D2E-424F-9458-2B79D0F1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5C3-EA5F-4269-BFDF-207CBE1A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3FB4E-8340-4B60-85CD-F2A0B9D6AE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