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18439"/>
        <c:axId val="90396320"/>
      </c:barChart>
      <c:catAx>
        <c:axId val="493184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96320"/>
        <c:crosses val="autoZero"/>
        <c:auto val="1"/>
        <c:lblAlgn val="ctr"/>
        <c:lblOffset val="100"/>
        <c:noMultiLvlLbl val="0"/>
      </c:catAx>
      <c:valAx>
        <c:axId val="90396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184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014-0126-4C91-B66F-57C8F820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09E-7B68-434F-ACF9-9EAB4C1D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FF5-F17F-418B-AB2F-74B694E8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AFB-856A-482F-B5AB-85AF5DBF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F11-3E1C-4A48-879D-7C683114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5AA-D8EF-47EF-8980-36D68501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847-3A29-47AB-910F-6EF8CABD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1E3-8471-41CA-AB44-C5CD7F4E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BEA-1585-4327-B92C-E6D8005F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6C5-5BAD-4E53-B7B0-53EC3481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64C-889C-4C63-B6DC-6D6F533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3D6-04C8-4904-8300-F2397810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CA344-629A-4859-9B82-B07FDDE0EC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