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29456"/>
        <c:axId val="38518275"/>
      </c:barChart>
      <c:catAx>
        <c:axId val="13729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18275"/>
        <c:crosses val="autoZero"/>
        <c:auto val="1"/>
        <c:lblAlgn val="ctr"/>
        <c:lblOffset val="100"/>
        <c:noMultiLvlLbl val="0"/>
      </c:catAx>
      <c:valAx>
        <c:axId val="38518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29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082-88E0-45C1-8A7F-3E8A8FC3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15B-FF42-4A3E-9D98-81156FF4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F1B-D46A-405E-8547-65CAF381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540-89AD-470C-9C09-38184391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74E2-D2AB-4920-A0B5-A3234005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1A5-93C7-45B1-B3ED-813EA54F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DA4-D188-42EA-BEFB-E41CC8BF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773-1325-46EB-8237-FDDB72FE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144-B86B-4628-8E73-193C356D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644-CA1C-4B5A-874F-A3E64F30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762-8BE4-49BB-8B41-0A726A34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E87D-60F5-4BB9-BEDF-F90BEDE0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1F3A5-3E3D-4221-80F5-B35EFD6F22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