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297285"/>
        <c:axId val="27413284"/>
      </c:barChart>
      <c:catAx>
        <c:axId val="922972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13284"/>
        <c:crosses val="autoZero"/>
        <c:auto val="1"/>
        <c:lblAlgn val="ctr"/>
        <c:lblOffset val="100"/>
        <c:noMultiLvlLbl val="0"/>
      </c:catAx>
      <c:valAx>
        <c:axId val="274132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972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3F38-4ED2-47E6-8E43-F253049C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6A57-0504-499C-AFC7-35200E3C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94A1-8AF3-43C7-868C-8540875E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3D0E-413D-4667-8D3A-BC01671B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183A-4BB2-4B9A-A437-175C3270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D20E-4FB8-49BD-B227-64500B8A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AC85-DE3A-4D42-A060-FE85BAD3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35AE-58F5-43E6-8452-1FF51C01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DF90-2885-444A-BD15-A47722FE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17B0-A9F3-42A0-AF50-E5C7FD81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6E05-D8C5-4959-BD07-682E8619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A823-54E9-410B-957D-70430F5C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8591E-C911-4F39-B316-7C6CC90C22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