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8616"/>
        <c:axId val="65816357"/>
      </c:barChart>
      <c:catAx>
        <c:axId val="4858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16357"/>
        <c:crosses val="autoZero"/>
        <c:auto val="1"/>
        <c:lblAlgn val="ctr"/>
        <c:lblOffset val="100"/>
        <c:noMultiLvlLbl val="0"/>
      </c:catAx>
      <c:valAx>
        <c:axId val="65816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8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BC0-3427-4280-B1C3-E5947950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75B-BE05-4518-A724-8931B95B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F45-1B1C-4542-9EFE-18A52F5D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B6E-DA1C-405A-BF10-986725FA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1D9-4F55-4830-AA27-1101B4C2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EBF-97AB-4978-8C40-CAFB66D7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2FA-5EBE-4BA2-B2E3-6FED4C07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E84-FFD7-470B-A7E8-58B6B4D1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554-91BA-4CC6-B5A1-1B41B5E6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107-2C76-44F8-A36A-D0FF52AE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007-F431-45A9-AC67-D8A913C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2B0-9F3F-4BB6-865F-2857147C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2BA32-5629-4570-8362-3D586560AF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