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65102"/>
        <c:axId val="64501103"/>
      </c:barChart>
      <c:catAx>
        <c:axId val="78165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01103"/>
        <c:crosses val="autoZero"/>
        <c:auto val="1"/>
        <c:lblAlgn val="ctr"/>
        <c:lblOffset val="100"/>
        <c:noMultiLvlLbl val="0"/>
      </c:catAx>
      <c:valAx>
        <c:axId val="64501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65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471-62C0-4E56-B185-73D1E301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265-E1C6-4D1A-99B8-34FE930C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819-7793-448B-9BB5-01A3CDC9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DEF-A474-452E-AEA5-D2B71EE4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6C7-9767-490D-9977-E618D6B6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1AC-58DE-41E2-98E0-5D4336BC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57B-FB20-4123-86C8-92D21804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465-9491-4BF3-9EBB-0D87FB89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DDE-F2CF-46CB-8704-2690465E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44A-8D80-4D15-ADAC-4A59592E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1B8-4174-4793-856B-4F36529C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668-BA86-43F5-A392-343AA5DF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41A88-66FA-40D3-9220-B7650B4C9B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