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67624"/>
        <c:axId val="55496309"/>
      </c:barChart>
      <c:catAx>
        <c:axId val="463676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96309"/>
        <c:crosses val="autoZero"/>
        <c:auto val="1"/>
        <c:lblAlgn val="ctr"/>
        <c:lblOffset val="100"/>
        <c:noMultiLvlLbl val="0"/>
      </c:catAx>
      <c:valAx>
        <c:axId val="55496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676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401-BB8A-4F0E-8D63-74F9EA4F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B12-F9A1-49BF-86C7-84BBEABA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AA9-0BA2-404B-9C37-318A6E22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AFB-042B-4E3B-AE01-D9C42939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831-2295-43AA-877F-DC740CF1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9A6F-91A6-42FD-8B78-CA800357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128-5B6F-4A26-BDEE-324A8C5C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33E-F651-4692-983F-3FE746D5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6AA-F118-49A4-A9D5-E340E5B1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A1F-8022-42A9-B6BB-635DCDC0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7AD-F501-4F51-A299-67D76891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49F-18A3-4A44-A4E3-EB22190B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16D20-2A6C-41C7-BE99-2C5720A88B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