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14403"/>
        <c:axId val="90638490"/>
      </c:barChart>
      <c:catAx>
        <c:axId val="46914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8490"/>
        <c:crosses val="autoZero"/>
        <c:auto val="1"/>
        <c:lblAlgn val="ctr"/>
        <c:lblOffset val="100"/>
        <c:noMultiLvlLbl val="0"/>
      </c:catAx>
      <c:valAx>
        <c:axId val="90638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14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E01-DB28-4232-852E-5F28DDC7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341-3D39-471E-9512-9FED9620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987-2C73-4FA1-B10D-F6A4C66F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77E-3E2A-46EC-B71C-BFD74A80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09D-2F03-4206-9D4F-1ACB67B5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942-2A55-47CD-9CB7-EB69D6A3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6F3-7BA4-4E21-B572-05C5B3EA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837-9824-459A-9FDA-93A979B4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0AB-4116-4495-9F22-490DA0F9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DE7-C2A8-48AF-91F3-E305A06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81A-E38A-4B46-BDA8-8B1A85B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7D2-6456-4B69-8E23-C08D03D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F01B4-529D-4A9A-BD8E-1C7CBC562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