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65900"/>
        <c:axId val="35138609"/>
      </c:barChart>
      <c:catAx>
        <c:axId val="23765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38609"/>
        <c:crosses val="autoZero"/>
        <c:auto val="1"/>
        <c:lblAlgn val="ctr"/>
        <c:lblOffset val="100"/>
        <c:noMultiLvlLbl val="0"/>
      </c:catAx>
      <c:valAx>
        <c:axId val="35138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65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A7E-0DE2-4204-AAB9-D2C6473A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6B0-FC68-4298-B77B-BAE11595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2F3-E3DF-409F-A5F5-2A661077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244-1A4C-407E-B31F-FEA5A53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D77-ADD1-4196-BC19-D575BD32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712-439A-411A-91C4-A40C0C2E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89E-7B03-4F71-B9C3-A2FE92F7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827-6380-43A9-9E33-E2B01302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F5E-7DC0-4C1C-AADC-422031A3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3BC-12C6-402A-8EF1-1BCD331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599-E1F1-4AD6-A096-32F7DBD2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86A-3CB9-4034-BCF4-F1253046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FE4F9-426A-463D-8A0B-F815B97318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