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9410"/>
        <c:axId val="3333150"/>
      </c:barChart>
      <c:catAx>
        <c:axId val="6119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3150"/>
        <c:crosses val="autoZero"/>
        <c:auto val="1"/>
        <c:lblAlgn val="ctr"/>
        <c:lblOffset val="100"/>
        <c:noMultiLvlLbl val="0"/>
      </c:catAx>
      <c:valAx>
        <c:axId val="3333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9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350-A6EF-487E-ABE1-46D1CFEA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15E-F5B1-4227-9E84-ED4BB0A9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8D6-2990-47C9-A9EE-9554F8E4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E40-90A1-4C0D-B8A8-A0AF4812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69C-FF76-46C5-94BE-E5EFA57D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680-195B-4074-9E61-5467DE1F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138-1898-48A6-BABE-D59BD280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B3F-5A85-4284-86CB-0ABBC245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154-EBEF-4223-A0B8-252392AB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7EA-15CE-4272-9591-79879C50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AD1-9E4C-4DB9-90CA-A172D7B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D96-F11F-4CCE-ABF1-F81F0CA9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DF492-4A42-415B-A9D1-72357C3E89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