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17051"/>
        <c:axId val="22568718"/>
      </c:barChart>
      <c:catAx>
        <c:axId val="68017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68718"/>
        <c:crosses val="autoZero"/>
        <c:auto val="1"/>
        <c:lblAlgn val="ctr"/>
        <c:lblOffset val="100"/>
        <c:noMultiLvlLbl val="0"/>
      </c:catAx>
      <c:valAx>
        <c:axId val="22568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17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85E-1A9A-4983-A882-27BEBA58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0BA-A002-48A6-98BB-0A8AFE69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1D4-8CA1-479C-BE59-81C4CB32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D81-1A3B-4C0A-AAFA-8DF30F6B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8FC-90D9-47CF-9938-B5B59498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164-CBC4-418C-BEA6-D190CBE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425-7049-4390-A75F-9B84991A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E55-303D-4414-876E-1F891E8A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495-C4EC-4E1C-8BA9-C4EA9CD1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5FE-0D98-4108-8616-48AB28C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5FE-BF6C-4DA1-B49B-84C54E8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FA5-673E-4E01-9025-0D09F9BC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49809-A297-48A4-A33F-F3BDF728DE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