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19964"/>
        <c:axId val="82997584"/>
      </c:barChart>
      <c:catAx>
        <c:axId val="60819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97584"/>
        <c:crosses val="autoZero"/>
        <c:auto val="1"/>
        <c:lblAlgn val="ctr"/>
        <c:lblOffset val="100"/>
        <c:noMultiLvlLbl val="0"/>
      </c:catAx>
      <c:valAx>
        <c:axId val="82997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19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F34-0F90-476C-B97C-114FD8FB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80C-CDBC-4AA6-8D1F-0672C97B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D07-0B20-4353-8EBD-547C7856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F9A-8EAF-42FE-8E33-959C2BB9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E74-8159-427F-8FE1-FAA880E3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771-E348-49AA-A854-28C54670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8B0-97B2-4DBA-8B3F-87197280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DD8-11CA-431E-B3D7-994170B4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375-A89D-489A-A7DA-D4C5563E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A94-2C00-4694-977E-827E90D7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D50-E18C-44A1-B3C7-BD40B69A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A6B-B3A4-4076-B0B6-9EB2A22C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7EB04-3923-42D4-B865-E181609024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