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15025"/>
        <c:axId val="69944950"/>
      </c:barChart>
      <c:catAx>
        <c:axId val="80315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4950"/>
        <c:crosses val="autoZero"/>
        <c:auto val="1"/>
        <c:lblAlgn val="ctr"/>
        <c:lblOffset val="100"/>
        <c:noMultiLvlLbl val="0"/>
      </c:catAx>
      <c:valAx>
        <c:axId val="69944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15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0EB-708D-48CD-A45D-D25C8D00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87-9512-4686-ABEE-63417C9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D45-F355-4BF4-8B74-4A7B2AFD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963-1996-4B15-A420-88372960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5EB-C43F-452C-8CDE-2AEA31D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C5E-3FBB-43C7-9433-FA2ACCCB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3AD-6A39-4E17-881C-326E2894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3E8-7737-449C-948E-1DE023AE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F17-7295-4422-B44B-55F2B6BE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78-FB75-44E9-AE56-BC2E0D66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819-F4C4-4709-B2A9-AB200460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214-FD2C-45B7-90ED-1F72857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118CA-2718-4157-9119-74A4FFE491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